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07F0-5A1C-4ECA-A0FF-CE874C473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2968-85D5-492F-A5BF-CCFEA2753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9D85-92FB-41C2-9FFA-FB2E23CA0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8AB7-6936-40D1-A220-0248BA007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3B17-D646-4510-BBFD-77A4A4B58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CF76-300C-4F85-9F4B-1A6AE344D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3055-3ED8-4D7D-A733-CF743DA4D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D165-8760-404C-A129-7A278304B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B65E-20F0-478F-B893-B6E03C341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2605-3AF2-403B-82C8-FFA244066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6CF2-4480-4DBD-9205-EA74A6F99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B65E-7347-4262-8C64-5D5442576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9559-6C04-4CF9-9956-581E92A7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9A49-ECF2-4F83-AACF-BE983AE1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104A0-AA34-4EDF-A870-5B29A245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6B109-9B41-46CC-9D27-A814FC8F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265F4-385F-415A-ACCB-4DBD52AB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CC665-00EF-4A16-A02B-73DC106F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0527D-9EAB-4AD4-A531-F01B7C6E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5DA0B-A672-4173-BF2E-99124B33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8C8B1-5EBB-46BF-A6C2-6C876380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9252C-76E3-4229-AE4F-19B5BD72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CD4D5-37C2-426E-93A9-4D2B192D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EA442-BAB8-44E8-A371-60F1267B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1B8E-9568-4C82-B793-83A62635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A0E89-E726-4903-8C8C-7F031554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175A2-B355-4A2B-B7F4-F012244A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752BC-6963-42ED-B183-6CBFB65F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194BC-E40E-4745-9FF9-AE9BE89E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7A61D-B325-4AC7-95F5-3EF6F907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CD096-28E4-499D-9593-848EB4CA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568A4-31B4-4ED8-83EE-1D550D13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A6661-323F-4272-8760-BA7F4951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C2DB7-F0FF-4590-B6D8-2B7A8A39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72265-7D91-451B-B740-9890EA02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6360-A189-4C5E-ABF6-E782911C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D1574-6CD9-4A8F-8B2E-B0CB61CC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DCE83-5660-4319-BB9D-337B6219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41241-7DDD-45A8-B968-2F13C322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FE0D2-3918-47F9-B135-38FB4BD2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01E07-D629-4107-9559-92CCADEF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AC7EA-1EA2-45AF-8424-5553BE18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C8506-6245-4712-A038-28E20F0E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EB703-99BD-4A62-9817-7B238EC8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53240-0F8A-4CFF-B066-E40A5E5F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60B2E-DA53-490F-8B65-26B2D001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0CA6-5C96-4069-9C5B-525AA337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BFC85-735D-4559-A28F-D53F0003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23FCA-3056-47CE-B052-C2B4C2BC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E85C7-51AA-49BF-9D0E-6F9A4322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C84FA-8F58-4E44-8918-F308A170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379F9-E27A-4115-8063-44F6790D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13E9F-E030-4C2D-8F3F-BF4D7F6A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B1DAA-99B4-49C8-A3E9-E7D9D1F6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71BB6-4215-436F-AEF2-014FD344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D43CD-9689-4D82-B6A7-D53FE8F8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4C420-89F0-4516-93DE-4430A908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1ECF-AC09-4C2C-A64C-DD3C3908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82AC7-5A56-4DDB-B025-8E233282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26873-3107-4302-8B37-FD5547CA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A2A51-3C76-44D9-B174-0726C08E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BDC3D-FA85-4B82-ABA0-95FC9670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E3E19-D528-49B4-A434-DC32D819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BE32-FB2E-4A68-8746-5C4ACF67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3AFC-A471-4B03-9118-B89A4E71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2215-E8DA-4CE3-8683-B5AE96CD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0458-490D-496F-BF29-9138710C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B9E1-022F-4AA6-A01F-CEF4C82C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BFDD-1CFD-44C4-87CC-389569C4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9017-BD2B-4F74-899E-9CD1E792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BE51-F52B-4ABD-B5C0-11E8D614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CCC5-531D-432C-B5FC-8B85E0C1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9784-2F61-421A-9540-ECB95A0F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4757-0A66-4699-A17F-265E1491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8E119-FF9F-4345-B210-E907A85B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2225D-6592-4BFB-B7BF-65BFB58B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23743-F316-4749-B96B-11CBE0BC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ED948-299E-4B4C-BC60-B783492B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A5AF7-E031-4FBC-86DC-EE404F2A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650E-71D5-4090-A245-FBCF3592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9B141-0417-4581-B14B-3CEA07D0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9DC6D-D410-46CC-916A-C2C7821E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E65C1-D88C-4477-8355-71D277FE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27439-7C41-40E2-BD70-0BFD0DFE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EE86F-D09B-4FA5-B2E0-56CD4B85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01B95-4EF8-4A1C-A4AA-97DBAC83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17AD0-4554-4C63-A13F-DCFB2E95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D30F0-451B-4B08-9AA2-CC4EA1D3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09F34-C47D-4D5F-AC32-FCC5CE46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999DF-317F-4737-9E3D-B5F9154C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489A-4EDA-4FB4-9E11-45D4DC06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490BE-8F84-4D29-92FE-4D8FD1CF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D6D15-F855-4B2C-8C7D-563E0ECD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4CB5A-5666-46C8-9D91-ED3181E2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77701-133F-47AA-9780-D2025B62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A6C15-166F-45A7-84ED-C53F2F14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5D8A9-8DAF-422A-B278-7D376B8B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E94F8-EAF8-47A3-83ED-3E67C722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4C189-2731-4572-A5D0-54B131E1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B4D10-63B7-4D1F-8784-49FC7470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05D25-88B9-42F3-AA2A-C2398FA6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AA95-753E-4412-9729-65D9B275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293D8-0A49-406D-8367-1AFB64AF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64330-E940-4EAE-805E-E3A6BA5B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0F839-A904-4730-88B4-0F51170B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804AC-F591-4A85-A11E-2959661A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123FF-87BE-4B5A-92E3-D95D93BD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9E1E6-504F-481A-ABD1-97636115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5C58E-288A-4418-9988-753712BC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42735-7B5D-48B1-9CD5-23B9B7E6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A9289-93AA-4880-9A1A-CA1D8C9B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A95A4-BF20-449D-9BA2-A30890F8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9D82-82E6-4C45-9DBD-3C0049DE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6119B-4473-4A3C-8D6B-69B57A72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41150-FD6F-442F-8D41-64A91DC5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D0EC3-0DE9-4D70-BC01-7D5261E6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4C035-FFB4-4EAD-8735-87F86389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81FED-8092-48AF-A54A-4478E2DD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39487-3169-4951-851F-44C2FC77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1EDE4-F233-474F-A3FD-BEEE2F16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05647-1ED0-40C3-AFC3-B548497B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62FC3-EB38-4BF0-89AA-FAB11C2E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B2487-C5C1-4FFC-8284-9BF975A5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45B9-59EE-4202-B75C-613A9176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9FC29-7C3E-47F9-8FD0-94123539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20C82-3578-4656-9B1A-24C2643DF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0011F-ECB3-46C3-A74D-BEBCFF3FF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1A8BB-A743-45DF-91C4-37BF96AF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37541-3338-4616-B590-4E6B157B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37C69-8C67-4D3E-BBDD-1C2D136E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AADAE-7756-47A4-956E-2D576B7A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1D313-E584-45AB-98FB-3B67A0E6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B4B40-FCAE-4F7D-A209-F9A6A19F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0CD52-2405-48AC-B6AB-8B8D1594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D54B-66F2-4413-96EF-EC7D987A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3F862-A591-4102-A437-AC8EFC0D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9B179-0C2E-47D3-9119-B1A75A37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DC85B-D342-489F-8A1B-F8201EBF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FA37F-8539-435C-917F-3A4D232D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6A699-23FE-4EC0-A5D8-CC69EF3A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5542D-DA71-4714-B218-DB77DC2C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110B9-B8BE-4BA9-B343-E6E061D0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AFFF3-FCAF-4BB9-BC18-996BBB1B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78A21-E49E-48A9-B1C2-06AB10EF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5CA2A-B320-4EFA-B36B-DFE9C7AA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D61A-FC8F-4A6F-9E45-2CC0B2C5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0038F-B848-44BF-BC0B-E0D016C9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744BB-EB35-450D-A8D6-23DF5EF8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5461D-6BF3-456B-B0BC-C7CB8B72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A1113-37D5-4251-8441-0158AFC1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15A87-683A-49D2-9E97-5FDF05E4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C1B27-0461-406A-8EA2-8507A0DF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D29C4-48BE-4B30-A7D3-7C65FBAF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B4DD1-E1F1-452E-B89E-F96C0BAD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808AA-C545-4629-8DDF-BA7FBD75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BEA21-EA63-426C-AD5C-89B799E9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38C6-4D8C-4BF5-AA9F-E50FA8C46BD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A73B-BF6B-4BD6-B032-3E552146189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EEC5-826D-4F19-B0B0-5C4B77F0316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A3F5-9EAE-4695-9F81-84236DEAC55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6F96-581C-4306-A945-F1B5DCAB25C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2772-59C1-4BE3-9331-05A7C0F825A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CCF1-4F08-417E-BD1D-94E3E564F85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0225-1504-4526-BF6D-7ECB88886E4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C595-58D8-4195-87F5-A6D25545524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BAB0-ADCD-4E0E-8027-2A07770EB09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D099-57BA-4E48-A270-FD66ECD87B9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69A3-6362-4F85-A7F0-400529EFF33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361960" y="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Script MT Bold"/>
              </a:rPr>
              <a:t>Chapter 18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3" name="WordArt 5"/>
          <p:cNvSpPr txBox="1"/>
          <p:nvPr/>
        </p:nvSpPr>
        <p:spPr>
          <a:xfrm>
            <a:off x="914400" y="1066680"/>
            <a:ext cx="74674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Script MT Bold"/>
              </a:rPr>
              <a:t>Leadership to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514" name="WordArt 6"/>
          <p:cNvSpPr txBox="1"/>
          <p:nvPr/>
        </p:nvSpPr>
        <p:spPr>
          <a:xfrm>
            <a:off x="1295280" y="3352680"/>
            <a:ext cx="67820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Script MT Bold"/>
              </a:rPr>
              <a:t>Achieve Qual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1447920" y="5791320"/>
            <a:ext cx="6553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ript MT Bold"/>
              </a:rPr>
              <a:t>By:  Paul Hershey, Kenneth Blanchard, and Dewey John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228600" y="76212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9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cript MT Bold"/>
              </a:rPr>
              <a:t>The organization must determine the most efficient means of measuring quality and exhibit their “WAY” daily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9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cript MT Bold"/>
              </a:rPr>
              <a:t>When you determine your organization’s daily “WAY” of performance, leaders must keep a constant eye on tracking the implementation progress through measuring and monitoring that </a:t>
            </a:r>
            <a:r>
              <a:rPr b="0" lang="en-US" sz="3100" spc="-1" strike="noStrike">
                <a:solidFill>
                  <a:srgbClr val="000000"/>
                </a:solidFill>
                <a:latin typeface="Script MT Bold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Script MT Bold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Script MT Bold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Script MT Bold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Script MT Bold"/>
              </a:rPr>
              <a:t>“WAY”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3057480" y="304920"/>
            <a:ext cx="64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Script MT Bold"/>
              </a:rPr>
              <a:t>Chapter  18:  Leadership to Achieve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WordArt 5"/>
          <p:cNvSpPr txBox="1"/>
          <p:nvPr/>
        </p:nvSpPr>
        <p:spPr>
          <a:xfrm>
            <a:off x="3886200" y="4952880"/>
            <a:ext cx="4648320" cy="16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Script MT Bold"/>
              </a:rPr>
              <a:t>Phase 6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Script MT Bold"/>
              <a:ea typeface="Script MT Bold"/>
            </a:endParaRPr>
          </a:p>
        </p:txBody>
      </p:sp>
      <p:pic>
        <p:nvPicPr>
          <p:cNvPr id="555" name="Picture 7" descr="j0283209"/>
          <p:cNvPicPr/>
          <p:nvPr/>
        </p:nvPicPr>
        <p:blipFill>
          <a:blip r:embed="rId1"/>
          <a:stretch/>
        </p:blipFill>
        <p:spPr>
          <a:xfrm>
            <a:off x="685800" y="4495680"/>
            <a:ext cx="2133720" cy="208764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9"/>
          <p:cNvSpPr/>
          <p:nvPr/>
        </p:nvSpPr>
        <p:spPr>
          <a:xfrm>
            <a:off x="3962520" y="42670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Measuring and Monitoring Ongoing Performance:  Tracking Implementatio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228240" y="3581280"/>
            <a:ext cx="84582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cript MT Bold"/>
              </a:rPr>
              <a:t>Continuous improvement effor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cript MT Bold"/>
              </a:rPr>
              <a:t>Analyze data to concur targ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cript MT Bold"/>
              </a:rPr>
              <a:t>Dynamics of the organization bring about new products, services, and need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3058920" y="22860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Script MT Bold"/>
              </a:rPr>
              <a:t>Chapter  18:  Leadership to Achiev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WordArt 5"/>
          <p:cNvSpPr txBox="1"/>
          <p:nvPr/>
        </p:nvSpPr>
        <p:spPr>
          <a:xfrm>
            <a:off x="228600" y="457200"/>
            <a:ext cx="3124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Script MT Bold"/>
              </a:rPr>
              <a:t>Phase 7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pic>
        <p:nvPicPr>
          <p:cNvPr id="560" name="Picture 7" descr="j0302953"/>
          <p:cNvPicPr/>
          <p:nvPr/>
        </p:nvPicPr>
        <p:blipFill>
          <a:blip r:embed="rId1"/>
          <a:stretch/>
        </p:blipFill>
        <p:spPr>
          <a:xfrm>
            <a:off x="6934320" y="1219320"/>
            <a:ext cx="1793880" cy="251460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8"/>
          <p:cNvSpPr/>
          <p:nvPr/>
        </p:nvSpPr>
        <p:spPr>
          <a:xfrm>
            <a:off x="685800" y="22860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Adjusting Performance Targets for Continuous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Script MT Bold"/>
              </a:rPr>
              <a:t>Why should so many efforts be made to achieve “quality”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51920" y="1980720"/>
            <a:ext cx="7239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cript MT Bold"/>
              </a:rPr>
              <a:t>2 Reasons for qual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10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Quality is an essential contributor to organizational resul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10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The role of leadership is important to implementing qualit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8" name="Picture 5" descr="j0302953"/>
          <p:cNvPicPr/>
          <p:nvPr/>
        </p:nvPicPr>
        <p:blipFill>
          <a:blip r:embed="rId1"/>
          <a:stretch/>
        </p:blipFill>
        <p:spPr>
          <a:xfrm>
            <a:off x="7238880" y="2209680"/>
            <a:ext cx="1684440" cy="236232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6"/>
          <p:cNvSpPr/>
          <p:nvPr/>
        </p:nvSpPr>
        <p:spPr>
          <a:xfrm>
            <a:off x="3352680" y="22860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Chapter 18:  Leadership to Achiev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152280" y="5562720"/>
            <a:ext cx="929664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For quality to become an operationally effective p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of an organization, it must permeate the entire organ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Rectangle 2" descr=""/>
          <p:cNvPicPr/>
          <p:nvPr/>
        </p:nvPicPr>
        <p:blipFill>
          <a:blip r:embed="rId1"/>
          <a:stretch/>
        </p:blipFill>
        <p:spPr>
          <a:xfrm>
            <a:off x="3193920" y="353880"/>
            <a:ext cx="5688000" cy="5302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Dr. W. Edwards Deming’s Continuous Improvement Cycle is completed by utilization of seven steps or phases.  He believes that quality can be achieved through PDCA:  Planning, Doing, Checking, and Acting. 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3" name="WordArt 4"/>
          <p:cNvSpPr txBox="1"/>
          <p:nvPr/>
        </p:nvSpPr>
        <p:spPr>
          <a:xfrm>
            <a:off x="6705720" y="1676520"/>
            <a:ext cx="197172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99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roadway"/>
              </a:rPr>
              <a:t>7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99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roadway"/>
              <a:ea typeface="Broadway"/>
            </a:endParaRPr>
          </a:p>
        </p:txBody>
      </p:sp>
    </p:spTree>
  </p:cSld>
  <p:transition spd="med">
    <p:wheel spokes="3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Script MT Bold"/>
              </a:rPr>
              <a:t>The 7 Phas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Start-up:  Creating the Vis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Awareness:  Sharing the Vision and  Soliciting Feedback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Selecting Performance Targets: Business Objectives and Critical Success Facto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Reinforcing Implementation:  Achieve Immediate Succes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iberating Employees:  Giving Employees the Ability to Implement the Syste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Measuring and Monitoring Ongoing Performance:  Tracking Implementation Progres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Adjusting Performance Targets for Continuous Improveme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3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276360" y="-360"/>
            <a:ext cx="563868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Script MT Bold"/>
              </a:rPr>
              <a:t>Chapter  18:  Leadership to Achieve Qualit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228240" y="350496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cript MT Bold"/>
              </a:rPr>
              <a:t>Core value – takes between 5 and 7 yea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cript MT Bold"/>
              </a:rPr>
              <a:t>Lifetime nourish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cript MT Bold"/>
              </a:rPr>
              <a:t>Quality management is not a tool or techniq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cript MT Bold"/>
              </a:rPr>
              <a:t>Must be expressed in an organization’s vision and mission state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WordArt 4"/>
          <p:cNvSpPr txBox="1"/>
          <p:nvPr/>
        </p:nvSpPr>
        <p:spPr>
          <a:xfrm>
            <a:off x="2743200" y="1523880"/>
            <a:ext cx="3219480" cy="1443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Script MT Bold"/>
              </a:rPr>
              <a:t>Phase 1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Script MT Bold"/>
              <a:ea typeface="Script MT Bold"/>
            </a:endParaRPr>
          </a:p>
        </p:txBody>
      </p:sp>
      <p:pic>
        <p:nvPicPr>
          <p:cNvPr id="529" name="Picture 5" descr="j0297707"/>
          <p:cNvPicPr/>
          <p:nvPr/>
        </p:nvPicPr>
        <p:blipFill>
          <a:blip r:embed="rId1"/>
          <a:stretch/>
        </p:blipFill>
        <p:spPr>
          <a:xfrm>
            <a:off x="228600" y="228600"/>
            <a:ext cx="1733400" cy="213372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6"/>
          <p:cNvSpPr/>
          <p:nvPr/>
        </p:nvSpPr>
        <p:spPr>
          <a:xfrm>
            <a:off x="1981080" y="2438280"/>
            <a:ext cx="495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Script MT Bold"/>
              </a:rPr>
              <a:t>Start-up:  Creating th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428640" y="151920"/>
            <a:ext cx="57150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Script MT Bold"/>
              </a:rPr>
              <a:t>Chapter  18:  Leadership to Achieve Qualit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1066680" y="20574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3" marL="1092240" indent="-192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The vision is communicated to the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principal stakeholders:  owners,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092240" indent="-19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managers, and employe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092240" indent="-19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Wheel Model:  Customer-Driven Master Pla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092240" indent="-19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Communication and feedback are critic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092240" indent="-19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. L. Bean’s 9 dimensions of a total quality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climat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092240" indent="-19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Feedback from internal custom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092240" indent="-19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Customer for lif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WordArt 4"/>
          <p:cNvSpPr txBox="1"/>
          <p:nvPr/>
        </p:nvSpPr>
        <p:spPr>
          <a:xfrm>
            <a:off x="380880" y="304920"/>
            <a:ext cx="2971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Script MT Bold"/>
              </a:rPr>
              <a:t>Phase 2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pic>
        <p:nvPicPr>
          <p:cNvPr id="534" name="Picture 5" descr="j0233018"/>
          <p:cNvPicPr/>
          <p:nvPr/>
        </p:nvPicPr>
        <p:blipFill>
          <a:blip r:embed="rId1"/>
          <a:stretch/>
        </p:blipFill>
        <p:spPr>
          <a:xfrm>
            <a:off x="6781680" y="838080"/>
            <a:ext cx="2049480" cy="208116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6"/>
          <p:cNvSpPr/>
          <p:nvPr/>
        </p:nvSpPr>
        <p:spPr>
          <a:xfrm>
            <a:off x="3657600" y="8380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Script MT Bold"/>
              </a:rPr>
              <a:t>Awareness: Sharing the Vision and Soliciting Feedback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228240" y="99072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Focus on organization’s future dire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Refining the vision and mission statements into business objectiv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Vision is the destin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Mission statement defines the composi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Business objectives are signpo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Check your reference poi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3276720" y="304920"/>
            <a:ext cx="555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Script MT Bold"/>
              </a:rPr>
              <a:t>Chapter  18:  Leadership to Achiev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5"/>
          <p:cNvSpPr txBox="1"/>
          <p:nvPr/>
        </p:nvSpPr>
        <p:spPr>
          <a:xfrm rot="5400000">
            <a:off x="5562000" y="3429000"/>
            <a:ext cx="502920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Script MT Bold"/>
              </a:rPr>
              <a:t>Phase 3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Script MT Bold"/>
              <a:ea typeface="Script MT Bold"/>
            </a:endParaRPr>
          </a:p>
        </p:txBody>
      </p:sp>
      <p:pic>
        <p:nvPicPr>
          <p:cNvPr id="539" name="Picture 6" descr="j0293844"/>
          <p:cNvPicPr/>
          <p:nvPr/>
        </p:nvPicPr>
        <p:blipFill>
          <a:blip r:embed="rId1"/>
          <a:stretch/>
        </p:blipFill>
        <p:spPr>
          <a:xfrm>
            <a:off x="1447920" y="4724280"/>
            <a:ext cx="1738080" cy="182736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7"/>
          <p:cNvSpPr/>
          <p:nvPr/>
        </p:nvSpPr>
        <p:spPr>
          <a:xfrm>
            <a:off x="3962520" y="487692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Script MT Bold"/>
              </a:rPr>
              <a:t>Selecting Performance Targets:  Business Objectives and Critical Success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0880" y="34290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cript MT Bold"/>
              </a:rPr>
              <a:t>It is during this phase that leaders identify all positive results stemming from implement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cript MT Bold"/>
              </a:rPr>
              <a:t>The people in your organization must be accepting of the chan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cript MT Bold"/>
              </a:rPr>
              <a:t>Identify other areas of the organization which could progress from the chan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3429000" y="304920"/>
            <a:ext cx="551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Script MT Bold"/>
              </a:rPr>
              <a:t>Chapter  18:  Leadership to Achiev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WordArt 5"/>
          <p:cNvSpPr txBox="1"/>
          <p:nvPr/>
        </p:nvSpPr>
        <p:spPr>
          <a:xfrm>
            <a:off x="3276720" y="1447920"/>
            <a:ext cx="3962160" cy="1523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Script MT Bold"/>
              </a:rPr>
              <a:t>Phase 4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Script MT Bold"/>
              <a:ea typeface="Script MT Bold"/>
            </a:endParaRPr>
          </a:p>
        </p:txBody>
      </p:sp>
      <p:pic>
        <p:nvPicPr>
          <p:cNvPr id="544" name="Picture 8" descr="j0300840"/>
          <p:cNvPicPr/>
          <p:nvPr/>
        </p:nvPicPr>
        <p:blipFill>
          <a:blip r:embed="rId1"/>
          <a:stretch/>
        </p:blipFill>
        <p:spPr>
          <a:xfrm>
            <a:off x="457200" y="380880"/>
            <a:ext cx="2133720" cy="179712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9"/>
          <p:cNvSpPr/>
          <p:nvPr/>
        </p:nvSpPr>
        <p:spPr>
          <a:xfrm>
            <a:off x="3962520" y="22860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3276720" y="2438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Reinforcing Implementation:  Achieve Immediate Su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2285640" y="1066680"/>
            <a:ext cx="60958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31840" indent="-231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This is the phase during  which leaders empower their staff members, or give them time to make critical decisions regarding the implementation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3058920" y="30492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Script MT Bold"/>
              </a:rPr>
              <a:t>Chapter  18:  Leadership to Achiev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WordArt 5"/>
          <p:cNvSpPr txBox="1"/>
          <p:nvPr/>
        </p:nvSpPr>
        <p:spPr>
          <a:xfrm rot="5400000">
            <a:off x="-1602720" y="3050280"/>
            <a:ext cx="5029200" cy="909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Script MT Bold"/>
              </a:rPr>
              <a:t>Phase 5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Script MT Bold"/>
              <a:ea typeface="Script MT Bold"/>
            </a:endParaRPr>
          </a:p>
        </p:txBody>
      </p:sp>
      <p:pic>
        <p:nvPicPr>
          <p:cNvPr id="550" name="Picture 6" descr="j0195812"/>
          <p:cNvPicPr/>
          <p:nvPr/>
        </p:nvPicPr>
        <p:blipFill>
          <a:blip r:embed="rId1"/>
          <a:stretch/>
        </p:blipFill>
        <p:spPr>
          <a:xfrm>
            <a:off x="5867280" y="4191120"/>
            <a:ext cx="2075040" cy="213336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7"/>
          <p:cNvSpPr/>
          <p:nvPr/>
        </p:nvSpPr>
        <p:spPr>
          <a:xfrm>
            <a:off x="2057400" y="449568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Liberating Employees:  Giving Employees the Ability to Implement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EURY</cp:lastModifiedBy>
  <dcterms:modified xsi:type="dcterms:W3CDTF">2007-11-27T21:19:5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